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7482C-2407-4294-BFC4-E0AC68BAC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8A563-C020-4A21-A602-3E7D83AF3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06E80-4553-4636-B6F7-DBF42FE16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8A3E0-D14D-4C6B-B98C-28A8A798B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59CE4-8644-4B90-9CFC-72728B5CC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11D2-4F06-4479-86B4-BE8BB8F57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F277-D6CE-4733-AA99-02E4FFAF5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8A0A-8F72-4967-8D69-3BD108D67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4D78-77F6-48C3-B680-578AF83BE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5D20DD-9CFD-4EF2-BB99-AA032E5AD3E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4318B3-0C3C-4AB6-AB48-822C65E7813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792486-44C0-4000-8147-77FDFAE63CB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0E4DFB-4B98-4A9E-9E98-E7EF83C8F53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A09AF4-0600-4DB1-B0E9-85E3A19B8DB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813864-5B86-42D2-BAD7-D6605E44883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545265-0862-4A1B-AE55-FFD2862F00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228C-7392-429C-92D7-156C81D1B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61EE58-7929-476A-A3C0-053E6FFA863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1F2BF7-3D9F-4301-B3B2-25360543B9A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22A7BA-F2A3-414A-A125-FDF00E7B901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EA4285-2E03-4654-B1F6-294CAF25AA1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933582-5F94-48FE-9602-F60635DE6B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02E7-C3B6-40FC-BA4F-1DAC23017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27F8-FBB4-4F50-8A94-2DEAE8449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F4D0-CB68-41AD-A0B3-8AFDF46E3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E3A9-2C62-4051-98A1-E5CEC358E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F716-C0CE-488A-AE17-EF493277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1DC9-01BE-4366-A682-0676AA39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AFB9-08D8-421B-85D9-1B043B28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8AA53-6C95-4F2D-8834-F8B2E926A0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8EE4C1E2-37B9-4CBF-BDCA-7683DC1A5446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F7F49C0C-A85F-44F7-9AA9-4E6F578FBE67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26613-C306-413B-87EA-03FB028EEF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40" y="2421000"/>
            <a:ext cx="914112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Rapid Response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General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8280" y="1844640"/>
            <a:ext cx="8217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describes the composition and role of functional, technical multi-disciplinary teams of experts (Rapid Response Teams) that should be deployed in case of emergenc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341360"/>
            <a:ext cx="814716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having fully operational Rapid Response Teams (RRTs) able to act immediately once a suspicious case is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omposition and terms of reference of the R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activities  of the R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46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RT is a group of experienced experts that are on stand-by and can reach any part of the country within 24 hours. Their actions will help to contain/stop an outbreak early on. They will survey the first case(s), provide health care in a central facility, engage with the community and carry out infection, prevention and control measures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Composition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236240"/>
            <a:ext cx="40320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psychosocial support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data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media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4356000" y="1236600"/>
            <a:ext cx="4537080" cy="3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Sub-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techn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worker, psychiatric n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data cl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local media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tent Placeholder 2"/>
          <p:cNvSpPr/>
          <p:nvPr/>
        </p:nvSpPr>
        <p:spPr>
          <a:xfrm>
            <a:off x="611280" y="5157720"/>
            <a:ext cx="820872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The number of subnational teams depends on the level of risk,</a:t>
            </a:r>
            <a:br>
              <a:rPr sz="2000"/>
            </a:b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human resource availability and geographic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et up one at National level and at least one at sub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medical staff on WHO-AFRO module applied in Liberia, including mock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apping of health facilities and identify potential ETC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Community volunteers and Epis in subnational RRT (24h hot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Financial support from 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imulation exerc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1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0920" y="1052640"/>
            <a:ext cx="8518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2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457200" y="1052640"/>
            <a:ext cx="8534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ppropriate strategies and control measures including risk communications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detailed investigation rep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 to the final evaluation of the outbreak respo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rumors, reported outbreaks, and other public health emer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rapid response action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 and other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e the implementation of the propo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 including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3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5400" spc="-1" strike="noStrike">
                <a:solidFill>
                  <a:srgbClr val="0000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3:27:53Z</dcterms:modified>
  <cp:revision>145</cp:revision>
  <dc:subject/>
  <dc:title>DPC Training and Technical Update</dc:title>
</cp:coreProperties>
</file>